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95F-9D63-4E85-943A-149A7C42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58E-DF8B-41BA-85F3-835E4392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2F5-133D-470C-AA58-EBD78795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53B-A99D-4EF2-A128-D13C24E8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730D-4973-43AE-9549-9342380F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AED9-BD82-496A-A84D-68C7A497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B22F-5DEE-47F9-9332-EF8820A5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A2DB-ABDB-487F-BC21-CECE8E0A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63E7-BD5D-4FC3-8AB1-4FA1051E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6530-0D99-4C50-B8CB-DAE5631F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23ED-B700-47B0-A2E0-58C43472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B55-9B91-4E7F-86BE-2E3088E3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7213-1B67-42E2-B441-FE6346F9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DB70-54CB-4D37-B489-ADE9600D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DC44-540D-4702-BE1F-F03F4C74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F8A8-FD78-4AD8-BB2B-B2D7A447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BD75-DD60-4E2E-8FD7-48A56709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B38-06C3-4A68-9788-EEB9EBE4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6E7-B487-4549-86EB-248053D0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262-12B3-496F-8471-F214AC49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3C1-57D9-47B2-9C15-BD8A5CAC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3B6-E55F-4295-92D0-C71C17C3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CF5-D351-467B-97CD-EDC7A9DF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A46-B841-4FC3-B26C-1AC62B34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6D89-2594-445D-B7A0-FC7D2C519A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D4F4-2CC5-452F-B2F7-7E481B9A3C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ernhard_rieman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нтегральное исчис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Определенный интегр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Лекция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6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ерестановка пределов интегрир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 Аддитив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г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2195640" y="2205000"/>
                <a:ext cx="2808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2050920" y="4221000"/>
                <a:ext cx="26211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911160" y="4840200"/>
                <a:ext cx="62406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 знаке интегр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324000" y="2133720"/>
                <a:ext cx="51130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468360" y="3141720"/>
                <a:ext cx="5616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0"/>
              <p:cNvSpPr txBox="1"/>
              <p:nvPr/>
            </p:nvSpPr>
            <p:spPr>
              <a:xfrm>
                <a:off x="482760" y="4292640"/>
                <a:ext cx="70974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5"/>
          <p:cNvSpPr/>
          <p:nvPr/>
        </p:nvSpPr>
        <p:spPr>
          <a:xfrm>
            <a:off x="6948360" y="3860640"/>
            <a:ext cx="1440000" cy="1944720"/>
          </a:xfrm>
          <a:prstGeom prst="rect">
            <a:avLst/>
          </a:prstGeom>
          <a:solidFill>
            <a:srgbClr val="4f81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орема (об оценк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1835280" y="2276640"/>
                <a:ext cx="3673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AutoShape 5"/>
          <p:cNvSpPr/>
          <p:nvPr/>
        </p:nvSpPr>
        <p:spPr>
          <a:xfrm>
            <a:off x="3780000" y="2781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1692360" y="3213000"/>
                <a:ext cx="43196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7"/>
          <p:cNvSpPr/>
          <p:nvPr/>
        </p:nvSpPr>
        <p:spPr>
          <a:xfrm>
            <a:off x="1620000" y="458136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ческий смы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6012000" y="58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6300720" y="32126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6948360" y="5084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8388360" y="4221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6948360" y="5229360"/>
            <a:ext cx="1440000" cy="5760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680400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658800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6804000" y="522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658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6517800" y="53737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6300720" y="465300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9"/>
          <p:cNvGrpSpPr/>
          <p:nvPr/>
        </p:nvGrpSpPr>
        <p:grpSpPr>
          <a:xfrm>
            <a:off x="6948360" y="3951360"/>
            <a:ext cx="1440000" cy="1854000"/>
            <a:chOff x="6948360" y="3951360"/>
            <a:chExt cx="1440000" cy="1854000"/>
          </a:xfrm>
        </p:grpSpPr>
        <p:sp>
          <p:nvSpPr>
            <p:cNvPr id="319" name="Freeform 10"/>
            <p:cNvSpPr/>
            <p:nvPr/>
          </p:nvSpPr>
          <p:spPr>
            <a:xfrm rot="870600">
              <a:off x="7086600" y="4076640"/>
              <a:ext cx="1157400" cy="122256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771" h="590">
                  <a:moveTo>
                    <a:pt x="0" y="590"/>
                  </a:moveTo>
                  <a:cubicBezTo>
                    <a:pt x="11" y="423"/>
                    <a:pt x="23" y="257"/>
                    <a:pt x="91" y="227"/>
                  </a:cubicBezTo>
                  <a:cubicBezTo>
                    <a:pt x="159" y="197"/>
                    <a:pt x="295" y="447"/>
                    <a:pt x="408" y="409"/>
                  </a:cubicBezTo>
                  <a:cubicBezTo>
                    <a:pt x="521" y="371"/>
                    <a:pt x="711" y="68"/>
                    <a:pt x="77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40"/>
            <p:cNvGrpSpPr/>
            <p:nvPr/>
          </p:nvGrpSpPr>
          <p:grpSpPr>
            <a:xfrm>
              <a:off x="6948360" y="4437000"/>
              <a:ext cx="1440000" cy="1368360"/>
              <a:chOff x="6948360" y="4437000"/>
              <a:chExt cx="1440000" cy="1368360"/>
            </a:xfrm>
          </p:grpSpPr>
          <p:sp>
            <p:nvSpPr>
              <p:cNvPr id="321" name="Line 22"/>
              <p:cNvSpPr/>
              <p:nvPr/>
            </p:nvSpPr>
            <p:spPr>
              <a:xfrm>
                <a:off x="6948360" y="5300640"/>
                <a:ext cx="28764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3"/>
              <p:cNvSpPr/>
              <p:nvPr/>
            </p:nvSpPr>
            <p:spPr>
              <a:xfrm>
                <a:off x="7020000" y="5084640"/>
                <a:ext cx="43164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4"/>
              <p:cNvSpPr/>
              <p:nvPr/>
            </p:nvSpPr>
            <p:spPr>
              <a:xfrm>
                <a:off x="7812000" y="4797360"/>
                <a:ext cx="576360" cy="1008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5"/>
              <p:cNvSpPr/>
              <p:nvPr/>
            </p:nvSpPr>
            <p:spPr>
              <a:xfrm>
                <a:off x="7093080" y="4869000"/>
                <a:ext cx="503280" cy="93636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6"/>
              <p:cNvSpPr/>
              <p:nvPr/>
            </p:nvSpPr>
            <p:spPr>
              <a:xfrm>
                <a:off x="7164360" y="4724280"/>
                <a:ext cx="647640" cy="1081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7"/>
              <p:cNvSpPr/>
              <p:nvPr/>
            </p:nvSpPr>
            <p:spPr>
              <a:xfrm>
                <a:off x="7956720" y="4724280"/>
                <a:ext cx="43164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8"/>
              <p:cNvSpPr/>
              <p:nvPr/>
            </p:nvSpPr>
            <p:spPr>
              <a:xfrm>
                <a:off x="7667640" y="4941720"/>
                <a:ext cx="504720" cy="86364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9"/>
              <p:cNvSpPr/>
              <p:nvPr/>
            </p:nvSpPr>
            <p:spPr>
              <a:xfrm>
                <a:off x="7236000" y="4508640"/>
                <a:ext cx="720720" cy="1296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30"/>
              <p:cNvSpPr/>
              <p:nvPr/>
            </p:nvSpPr>
            <p:spPr>
              <a:xfrm>
                <a:off x="8028000" y="4653000"/>
                <a:ext cx="36036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1"/>
              <p:cNvSpPr/>
              <p:nvPr/>
            </p:nvSpPr>
            <p:spPr>
              <a:xfrm>
                <a:off x="8101080" y="4508640"/>
                <a:ext cx="287280" cy="433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32"/>
              <p:cNvSpPr/>
              <p:nvPr/>
            </p:nvSpPr>
            <p:spPr>
              <a:xfrm>
                <a:off x="6948360" y="5516640"/>
                <a:ext cx="144720" cy="288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3"/>
              <p:cNvSpPr/>
              <p:nvPr/>
            </p:nvSpPr>
            <p:spPr>
              <a:xfrm>
                <a:off x="8172360" y="4437000"/>
                <a:ext cx="216000" cy="2872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33" name="Object 34"/>
                <p:cNvSpPr txBox="1"/>
                <p:nvPr/>
              </p:nvSpPr>
              <p:spPr>
                <a:xfrm>
                  <a:off x="7451640" y="4508640"/>
                  <a:ext cx="58428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4" name="Object 36"/>
              <p:cNvSpPr txBox="1"/>
              <p:nvPr/>
            </p:nvSpPr>
            <p:spPr>
              <a:xfrm>
                <a:off x="6877080" y="580536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7"/>
              <p:cNvSpPr txBox="1"/>
              <p:nvPr/>
            </p:nvSpPr>
            <p:spPr>
              <a:xfrm>
                <a:off x="8317080" y="5805360"/>
                <a:ext cx="1965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8"/>
              <p:cNvSpPr txBox="1"/>
              <p:nvPr/>
            </p:nvSpPr>
            <p:spPr>
              <a:xfrm>
                <a:off x="8748720" y="580536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9"/>
              <p:cNvSpPr txBox="1"/>
              <p:nvPr/>
            </p:nvSpPr>
            <p:spPr>
              <a:xfrm>
                <a:off x="6291360" y="3122640"/>
                <a:ext cx="2156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Text Box 41"/>
          <p:cNvSpPr/>
          <p:nvPr/>
        </p:nvSpPr>
        <p:spPr>
          <a:xfrm>
            <a:off x="1887480" y="5083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2"/>
          <p:cNvSpPr/>
          <p:nvPr/>
        </p:nvSpPr>
        <p:spPr>
          <a:xfrm>
            <a:off x="694836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3"/>
          <p:cNvSpPr/>
          <p:nvPr/>
        </p:nvSpPr>
        <p:spPr>
          <a:xfrm>
            <a:off x="838836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666440" y="5013360"/>
            <a:ext cx="323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                    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,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5"/>
              <p:cNvSpPr txBox="1"/>
              <p:nvPr/>
            </p:nvSpPr>
            <p:spPr>
              <a:xfrm>
                <a:off x="2268360" y="5013360"/>
                <a:ext cx="935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6"/>
              <p:cNvSpPr txBox="1"/>
              <p:nvPr/>
            </p:nvSpPr>
            <p:spPr>
              <a:xfrm>
                <a:off x="1835280" y="5445000"/>
                <a:ext cx="273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7"/>
              <p:cNvSpPr txBox="1"/>
              <p:nvPr/>
            </p:nvSpPr>
            <p:spPr>
              <a:xfrm>
                <a:off x="3348000" y="5013360"/>
                <a:ext cx="1008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Text Box 48"/>
          <p:cNvSpPr/>
          <p:nvPr/>
        </p:nvSpPr>
        <p:spPr>
          <a:xfrm>
            <a:off x="601344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огично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2124000" y="2421000"/>
                <a:ext cx="2664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AutoShape 5"/>
          <p:cNvSpPr/>
          <p:nvPr/>
        </p:nvSpPr>
        <p:spPr>
          <a:xfrm>
            <a:off x="3059280" y="2781360"/>
            <a:ext cx="72720" cy="287280"/>
          </a:xfrm>
          <a:prstGeom prst="downArrow">
            <a:avLst>
              <a:gd name="adj1" fmla="val 50000"/>
              <a:gd name="adj2" fmla="val 987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2124000" y="2924280"/>
                <a:ext cx="1800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0" name="AutoShape 7"/>
          <p:cNvSpPr/>
          <p:nvPr/>
        </p:nvSpPr>
        <p:spPr>
          <a:xfrm>
            <a:off x="3059280" y="3645000"/>
            <a:ext cx="72720" cy="288720"/>
          </a:xfrm>
          <a:prstGeom prst="downArrow">
            <a:avLst>
              <a:gd name="adj1" fmla="val 50000"/>
              <a:gd name="adj2" fmla="val 992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8"/>
              <p:cNvSpPr txBox="1"/>
              <p:nvPr/>
            </p:nvSpPr>
            <p:spPr>
              <a:xfrm>
                <a:off x="2103480" y="3860640"/>
                <a:ext cx="2055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m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AutoShape 9"/>
          <p:cNvSpPr/>
          <p:nvPr/>
        </p:nvSpPr>
        <p:spPr>
          <a:xfrm>
            <a:off x="3059280" y="4508640"/>
            <a:ext cx="72720" cy="288720"/>
          </a:xfrm>
          <a:prstGeom prst="downArrow">
            <a:avLst>
              <a:gd name="adj1" fmla="val 50000"/>
              <a:gd name="adj2" fmla="val 992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0"/>
              <p:cNvSpPr txBox="1"/>
              <p:nvPr/>
            </p:nvSpPr>
            <p:spPr>
              <a:xfrm>
                <a:off x="2195640" y="4724280"/>
                <a:ext cx="19429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≥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1"/>
              <p:cNvSpPr txBox="1"/>
              <p:nvPr/>
            </p:nvSpPr>
            <p:spPr>
              <a:xfrm>
                <a:off x="3348000" y="5445000"/>
                <a:ext cx="3816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≥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547640" y="1844640"/>
            <a:ext cx="69868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им значением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            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зывается чис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орема (о средне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4572000" y="2133720"/>
                <a:ext cx="603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5364000" y="2133720"/>
                <a:ext cx="603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3708360" y="2637000"/>
                <a:ext cx="162864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835280" y="4292640"/>
                <a:ext cx="3457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AutoShape 8"/>
          <p:cNvSpPr/>
          <p:nvPr/>
        </p:nvSpPr>
        <p:spPr>
          <a:xfrm>
            <a:off x="3492360" y="472428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1979640" y="5157720"/>
                <a:ext cx="3097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0"/>
              <p:cNvSpPr txBox="1"/>
              <p:nvPr/>
            </p:nvSpPr>
            <p:spPr>
              <a:xfrm>
                <a:off x="1979640" y="5661000"/>
                <a:ext cx="30970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5"/>
          <p:cNvSpPr/>
          <p:nvPr/>
        </p:nvSpPr>
        <p:spPr>
          <a:xfrm>
            <a:off x="3059280" y="3789360"/>
            <a:ext cx="1441440" cy="11523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еометрический смыс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4"/>
              <p:cNvSpPr txBox="1"/>
              <p:nvPr/>
            </p:nvSpPr>
            <p:spPr>
              <a:xfrm>
                <a:off x="1908000" y="2205000"/>
                <a:ext cx="26816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7" name="Group 5"/>
          <p:cNvGrpSpPr/>
          <p:nvPr/>
        </p:nvGrpSpPr>
        <p:grpSpPr>
          <a:xfrm>
            <a:off x="3059280" y="3016440"/>
            <a:ext cx="1439280" cy="1854000"/>
            <a:chOff x="3059280" y="3016440"/>
            <a:chExt cx="1439280" cy="1854000"/>
          </a:xfrm>
        </p:grpSpPr>
        <p:sp>
          <p:nvSpPr>
            <p:cNvPr id="368" name="Freeform 6"/>
            <p:cNvSpPr/>
            <p:nvPr/>
          </p:nvSpPr>
          <p:spPr>
            <a:xfrm rot="870600">
              <a:off x="3197160" y="3141720"/>
              <a:ext cx="1157040" cy="122256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771" h="590">
                  <a:moveTo>
                    <a:pt x="0" y="590"/>
                  </a:moveTo>
                  <a:cubicBezTo>
                    <a:pt x="11" y="423"/>
                    <a:pt x="23" y="257"/>
                    <a:pt x="91" y="227"/>
                  </a:cubicBezTo>
                  <a:cubicBezTo>
                    <a:pt x="159" y="197"/>
                    <a:pt x="295" y="447"/>
                    <a:pt x="408" y="409"/>
                  </a:cubicBezTo>
                  <a:cubicBezTo>
                    <a:pt x="521" y="371"/>
                    <a:pt x="711" y="68"/>
                    <a:pt x="77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7"/>
            <p:cNvGrpSpPr/>
            <p:nvPr/>
          </p:nvGrpSpPr>
          <p:grpSpPr>
            <a:xfrm>
              <a:off x="3059280" y="3502080"/>
              <a:ext cx="1439280" cy="1368360"/>
              <a:chOff x="3059280" y="3502080"/>
              <a:chExt cx="1439280" cy="1368360"/>
            </a:xfrm>
          </p:grpSpPr>
          <p:sp>
            <p:nvSpPr>
              <p:cNvPr id="370" name="Line 8"/>
              <p:cNvSpPr/>
              <p:nvPr/>
            </p:nvSpPr>
            <p:spPr>
              <a:xfrm>
                <a:off x="3059280" y="4365720"/>
                <a:ext cx="28728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9"/>
              <p:cNvSpPr/>
              <p:nvPr/>
            </p:nvSpPr>
            <p:spPr>
              <a:xfrm>
                <a:off x="3130560" y="4149720"/>
                <a:ext cx="43128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0"/>
              <p:cNvSpPr/>
              <p:nvPr/>
            </p:nvSpPr>
            <p:spPr>
              <a:xfrm>
                <a:off x="3922560" y="3862440"/>
                <a:ext cx="576000" cy="1008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1"/>
              <p:cNvSpPr/>
              <p:nvPr/>
            </p:nvSpPr>
            <p:spPr>
              <a:xfrm>
                <a:off x="3203640" y="3934080"/>
                <a:ext cx="502920" cy="93636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2"/>
              <p:cNvSpPr/>
              <p:nvPr/>
            </p:nvSpPr>
            <p:spPr>
              <a:xfrm>
                <a:off x="3274920" y="3789360"/>
                <a:ext cx="647280" cy="1081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3"/>
              <p:cNvSpPr/>
              <p:nvPr/>
            </p:nvSpPr>
            <p:spPr>
              <a:xfrm>
                <a:off x="4067280" y="3789360"/>
                <a:ext cx="43128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4"/>
              <p:cNvSpPr/>
              <p:nvPr/>
            </p:nvSpPr>
            <p:spPr>
              <a:xfrm>
                <a:off x="3778200" y="4006800"/>
                <a:ext cx="504360" cy="86364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5"/>
              <p:cNvSpPr/>
              <p:nvPr/>
            </p:nvSpPr>
            <p:spPr>
              <a:xfrm>
                <a:off x="3346560" y="3573720"/>
                <a:ext cx="720360" cy="1296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6"/>
              <p:cNvSpPr/>
              <p:nvPr/>
            </p:nvSpPr>
            <p:spPr>
              <a:xfrm>
                <a:off x="4138560" y="3718080"/>
                <a:ext cx="36000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7"/>
              <p:cNvSpPr/>
              <p:nvPr/>
            </p:nvSpPr>
            <p:spPr>
              <a:xfrm>
                <a:off x="4211640" y="3573720"/>
                <a:ext cx="286920" cy="433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8"/>
              <p:cNvSpPr/>
              <p:nvPr/>
            </p:nvSpPr>
            <p:spPr>
              <a:xfrm>
                <a:off x="3059280" y="4581720"/>
                <a:ext cx="144360" cy="288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9"/>
              <p:cNvSpPr/>
              <p:nvPr/>
            </p:nvSpPr>
            <p:spPr>
              <a:xfrm>
                <a:off x="4282920" y="3502080"/>
                <a:ext cx="215640" cy="2872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2" name="Object 20"/>
                <p:cNvSpPr txBox="1"/>
                <p:nvPr/>
              </p:nvSpPr>
              <p:spPr>
                <a:xfrm>
                  <a:off x="3562200" y="3573720"/>
                  <a:ext cx="58392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3" name="Line 21"/>
          <p:cNvSpPr/>
          <p:nvPr/>
        </p:nvSpPr>
        <p:spPr>
          <a:xfrm>
            <a:off x="1908000" y="494172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2"/>
          <p:cNvSpPr/>
          <p:nvPr/>
        </p:nvSpPr>
        <p:spPr>
          <a:xfrm flipV="1">
            <a:off x="2411280" y="3141360"/>
            <a:ext cx="0" cy="21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3059280" y="414972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4500720" y="3284640"/>
            <a:ext cx="0" cy="16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2197080" y="49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5418000" y="486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2412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28"/>
              <p:cNvSpPr txBox="1"/>
              <p:nvPr/>
            </p:nvSpPr>
            <p:spPr>
              <a:xfrm>
                <a:off x="2916360" y="4941720"/>
                <a:ext cx="196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29"/>
              <p:cNvSpPr txBox="1"/>
              <p:nvPr/>
            </p:nvSpPr>
            <p:spPr>
              <a:xfrm>
                <a:off x="4427640" y="4913280"/>
                <a:ext cx="196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2"/>
              <p:cNvSpPr txBox="1"/>
              <p:nvPr/>
            </p:nvSpPr>
            <p:spPr>
              <a:xfrm>
                <a:off x="3492360" y="4941720"/>
                <a:ext cx="2080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Line 33"/>
          <p:cNvSpPr/>
          <p:nvPr/>
        </p:nvSpPr>
        <p:spPr>
          <a:xfrm>
            <a:off x="3564000" y="3789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4"/>
          <p:cNvSpPr/>
          <p:nvPr/>
        </p:nvSpPr>
        <p:spPr>
          <a:xfrm flipH="1">
            <a:off x="241128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6"/>
              <p:cNvSpPr txBox="1"/>
              <p:nvPr/>
            </p:nvSpPr>
            <p:spPr>
              <a:xfrm>
                <a:off x="1908000" y="3645000"/>
                <a:ext cx="495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7"/>
              <p:cNvSpPr txBox="1"/>
              <p:nvPr/>
            </p:nvSpPr>
            <p:spPr>
              <a:xfrm>
                <a:off x="4932360" y="5589720"/>
                <a:ext cx="2376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Text Box 38"/>
          <p:cNvSpPr/>
          <p:nvPr/>
        </p:nvSpPr>
        <p:spPr>
          <a:xfrm>
            <a:off x="1666440" y="5734080"/>
            <a:ext cx="323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                    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,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39"/>
              <p:cNvSpPr txBox="1"/>
              <p:nvPr/>
            </p:nvSpPr>
            <p:spPr>
              <a:xfrm>
                <a:off x="2268360" y="5734080"/>
                <a:ext cx="935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0"/>
              <p:cNvSpPr txBox="1"/>
              <p:nvPr/>
            </p:nvSpPr>
            <p:spPr>
              <a:xfrm>
                <a:off x="3348000" y="5734080"/>
                <a:ext cx="1008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Line 41"/>
          <p:cNvSpPr/>
          <p:nvPr/>
        </p:nvSpPr>
        <p:spPr>
          <a:xfrm>
            <a:off x="305928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2"/>
          <p:cNvSpPr/>
          <p:nvPr/>
        </p:nvSpPr>
        <p:spPr>
          <a:xfrm>
            <a:off x="450072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м тела с известной площадью поперечных сеч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казать самостоятель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7"/>
          <p:cNvSpPr/>
          <p:nvPr/>
        </p:nvSpPr>
        <p:spPr>
          <a:xfrm flipH="1" rot="5579400">
            <a:off x="1894680" y="2649240"/>
            <a:ext cx="1800000" cy="768600"/>
          </a:xfrm>
          <a:prstGeom prst="parallelogram">
            <a:avLst>
              <a:gd name="adj" fmla="val 937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8"/>
          <p:cNvSpPr/>
          <p:nvPr/>
        </p:nvSpPr>
        <p:spPr>
          <a:xfrm flipH="1" rot="5579400">
            <a:off x="3984840" y="2576160"/>
            <a:ext cx="1800000" cy="768240"/>
          </a:xfrm>
          <a:prstGeom prst="parallelogram">
            <a:avLst>
              <a:gd name="adj" fmla="val 937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rc 9"/>
          <p:cNvSpPr/>
          <p:nvPr/>
        </p:nvSpPr>
        <p:spPr>
          <a:xfrm rot="20514000">
            <a:off x="2906640" y="2436480"/>
            <a:ext cx="1790640" cy="8650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19189" h="21600">
                <a:moveTo>
                  <a:pt x="-1" y="0"/>
                </a:moveTo>
                <a:cubicBezTo>
                  <a:pt x="8077" y="0"/>
                  <a:pt x="15480" y="4507"/>
                  <a:pt x="19188" y="11683"/>
                </a:cubicBezTo>
              </a:path>
              <a:path stroke="0" w="19189" h="21600">
                <a:moveTo>
                  <a:pt x="-1" y="0"/>
                </a:moveTo>
                <a:cubicBezTo>
                  <a:pt x="8077" y="0"/>
                  <a:pt x="15480" y="4507"/>
                  <a:pt x="19188" y="116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rc 10"/>
          <p:cNvSpPr/>
          <p:nvPr/>
        </p:nvSpPr>
        <p:spPr>
          <a:xfrm flipV="1" rot="1015200">
            <a:off x="2847600" y="2888280"/>
            <a:ext cx="1719360" cy="720720"/>
          </a:xfrm>
          <a:custGeom>
            <a:avLst/>
            <a:gdLst>
              <a:gd name="textAreaLeft" fmla="*/ 0 w 1719360"/>
              <a:gd name="textAreaRight" fmla="*/ 1719720 w 1719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fill="none" w="16051" h="21600">
                <a:moveTo>
                  <a:pt x="-1" y="0"/>
                </a:moveTo>
                <a:cubicBezTo>
                  <a:pt x="6121" y="0"/>
                  <a:pt x="11954" y="2597"/>
                  <a:pt x="16051" y="7145"/>
                </a:cubicBezTo>
              </a:path>
              <a:path stroke="0" w="16051" h="21600">
                <a:moveTo>
                  <a:pt x="-1" y="0"/>
                </a:moveTo>
                <a:cubicBezTo>
                  <a:pt x="6121" y="0"/>
                  <a:pt x="11954" y="2597"/>
                  <a:pt x="16051" y="714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 rot="711000">
            <a:off x="2626920" y="2708280"/>
            <a:ext cx="432000" cy="64764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 rot="1189200">
            <a:off x="4788000" y="2852640"/>
            <a:ext cx="215640" cy="35892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3"/>
          <p:cNvSpPr/>
          <p:nvPr/>
        </p:nvSpPr>
        <p:spPr>
          <a:xfrm flipH="1" rot="5579400">
            <a:off x="2975760" y="2576160"/>
            <a:ext cx="1800000" cy="768600"/>
          </a:xfrm>
          <a:prstGeom prst="parallelogram">
            <a:avLst>
              <a:gd name="adj" fmla="val 93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 rot="1260600">
            <a:off x="3654360" y="2493720"/>
            <a:ext cx="432000" cy="10681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15"/>
          <p:cNvSpPr/>
          <p:nvPr/>
        </p:nvSpPr>
        <p:spPr>
          <a:xfrm flipV="1" rot="19815000">
            <a:off x="4417560" y="3321720"/>
            <a:ext cx="576360" cy="144720"/>
          </a:xfrm>
          <a:custGeom>
            <a:avLst/>
            <a:gdLst>
              <a:gd name="textAreaLeft" fmla="*/ 0 w 576360"/>
              <a:gd name="textAreaRight" fmla="*/ 576720 w 576360"/>
              <a:gd name="textAreaTop" fmla="*/ 360 h 144720"/>
              <a:gd name="textAreaBottom" fmla="*/ 145440 h 144720"/>
            </a:gdLst>
            <a:ahLst/>
            <a:rect l="textAreaLeft" t="textAreaTop" r="textAreaRight" b="textAreaBottom"/>
            <a:pathLst>
              <a:path fill="none" w="26367" h="21600">
                <a:moveTo>
                  <a:pt x="-1" y="532"/>
                </a:moveTo>
                <a:cubicBezTo>
                  <a:pt x="1564" y="178"/>
                  <a:pt x="3163" y="-1"/>
                  <a:pt x="4767" y="0"/>
                </a:cubicBezTo>
                <a:cubicBezTo>
                  <a:pt x="16696" y="0"/>
                  <a:pt x="26367" y="9670"/>
                  <a:pt x="26367" y="21600"/>
                </a:cubicBezTo>
              </a:path>
              <a:path stroke="0" w="26367" h="21600">
                <a:moveTo>
                  <a:pt x="-1" y="532"/>
                </a:moveTo>
                <a:cubicBezTo>
                  <a:pt x="1564" y="178"/>
                  <a:pt x="3163" y="-1"/>
                  <a:pt x="4767" y="0"/>
                </a:cubicBezTo>
                <a:cubicBezTo>
                  <a:pt x="16696" y="0"/>
                  <a:pt x="26367" y="9670"/>
                  <a:pt x="26367" y="21600"/>
                </a:cubicBezTo>
                <a:lnTo>
                  <a:pt x="4767" y="21600"/>
                </a:lnTo>
                <a:lnTo>
                  <a:pt x="-1" y="5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16"/>
          <p:cNvSpPr/>
          <p:nvPr/>
        </p:nvSpPr>
        <p:spPr>
          <a:xfrm>
            <a:off x="4643280" y="2637000"/>
            <a:ext cx="289080" cy="215640"/>
          </a:xfrm>
          <a:custGeom>
            <a:avLst/>
            <a:gdLst>
              <a:gd name="textAreaLeft" fmla="*/ 0 w 289080"/>
              <a:gd name="textAreaRight" fmla="*/ 289080 w 289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331640" y="2491920"/>
            <a:ext cx="3942000" cy="2377080"/>
            <a:chOff x="1331640" y="2491920"/>
            <a:chExt cx="3942000" cy="2377080"/>
          </a:xfrm>
        </p:grpSpPr>
        <p:sp>
          <p:nvSpPr>
            <p:cNvPr id="415" name="Line 4"/>
            <p:cNvSpPr/>
            <p:nvPr/>
          </p:nvSpPr>
          <p:spPr>
            <a:xfrm>
              <a:off x="2050920" y="3860640"/>
              <a:ext cx="30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5"/>
            <p:cNvSpPr/>
            <p:nvPr/>
          </p:nvSpPr>
          <p:spPr>
            <a:xfrm flipV="1">
              <a:off x="2050920" y="249192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6"/>
            <p:cNvSpPr/>
            <p:nvPr/>
          </p:nvSpPr>
          <p:spPr>
            <a:xfrm flipH="1">
              <a:off x="1331640" y="3860640"/>
              <a:ext cx="71892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" name="Object 17"/>
                <p:cNvSpPr txBox="1"/>
                <p:nvPr/>
              </p:nvSpPr>
              <p:spPr>
                <a:xfrm>
                  <a:off x="2309760" y="393372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18"/>
                <p:cNvSpPr txBox="1"/>
                <p:nvPr/>
              </p:nvSpPr>
              <p:spPr>
                <a:xfrm>
                  <a:off x="3348000" y="393372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Object 19"/>
                <p:cNvSpPr txBox="1"/>
                <p:nvPr/>
              </p:nvSpPr>
              <p:spPr>
                <a:xfrm>
                  <a:off x="4356000" y="3905280"/>
                  <a:ext cx="1969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Object 20"/>
                <p:cNvSpPr txBox="1"/>
                <p:nvPr/>
              </p:nvSpPr>
              <p:spPr>
                <a:xfrm>
                  <a:off x="5076720" y="378936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2" name="Object 21"/>
              <p:cNvSpPr txBox="1"/>
              <p:nvPr/>
            </p:nvSpPr>
            <p:spPr>
              <a:xfrm>
                <a:off x="1979640" y="4221000"/>
                <a:ext cx="2797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Line 22"/>
          <p:cNvSpPr/>
          <p:nvPr/>
        </p:nvSpPr>
        <p:spPr>
          <a:xfrm flipV="1">
            <a:off x="2843280" y="3212640"/>
            <a:ext cx="1008000" cy="86364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3"/>
              <p:cNvSpPr txBox="1"/>
              <p:nvPr/>
            </p:nvSpPr>
            <p:spPr>
              <a:xfrm>
                <a:off x="5940360" y="3860640"/>
                <a:ext cx="1800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5" name="AutoShape 24"/>
          <p:cNvSpPr/>
          <p:nvPr/>
        </p:nvSpPr>
        <p:spPr>
          <a:xfrm>
            <a:off x="5003640" y="436572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7"/>
          <p:cNvSpPr/>
          <p:nvPr/>
        </p:nvSpPr>
        <p:spPr>
          <a:xfrm>
            <a:off x="1908000" y="5157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ледствие: объем тела вращ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6"/>
          <p:cNvSpPr/>
          <p:nvPr/>
        </p:nvSpPr>
        <p:spPr>
          <a:xfrm flipV="1">
            <a:off x="2050920" y="24919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1331640" y="3789360"/>
            <a:ext cx="7189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8"/>
              <p:cNvSpPr txBox="1"/>
              <p:nvPr/>
            </p:nvSpPr>
            <p:spPr>
              <a:xfrm>
                <a:off x="2556000" y="4076640"/>
                <a:ext cx="196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0"/>
              <p:cNvSpPr txBox="1"/>
              <p:nvPr/>
            </p:nvSpPr>
            <p:spPr>
              <a:xfrm>
                <a:off x="4500720" y="3933720"/>
                <a:ext cx="1965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1"/>
              <p:cNvSpPr txBox="1"/>
              <p:nvPr/>
            </p:nvSpPr>
            <p:spPr>
              <a:xfrm>
                <a:off x="5364000" y="3716280"/>
                <a:ext cx="26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AutoShape 12"/>
          <p:cNvSpPr/>
          <p:nvPr/>
        </p:nvSpPr>
        <p:spPr>
          <a:xfrm flipH="1" rot="5579400">
            <a:off x="1679760" y="3296880"/>
            <a:ext cx="1800000" cy="768240"/>
          </a:xfrm>
          <a:prstGeom prst="parallelogram">
            <a:avLst>
              <a:gd name="adj" fmla="val 937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3"/>
          <p:cNvSpPr/>
          <p:nvPr/>
        </p:nvSpPr>
        <p:spPr>
          <a:xfrm flipH="1" rot="5579400">
            <a:off x="3551040" y="3223800"/>
            <a:ext cx="1800360" cy="768240"/>
          </a:xfrm>
          <a:prstGeom prst="parallelogram">
            <a:avLst>
              <a:gd name="adj" fmla="val 9379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4"/>
          <p:cNvSpPr/>
          <p:nvPr/>
        </p:nvSpPr>
        <p:spPr>
          <a:xfrm flipH="1" rot="5579400">
            <a:off x="2543400" y="3296880"/>
            <a:ext cx="1800000" cy="768240"/>
          </a:xfrm>
          <a:prstGeom prst="parallelogram">
            <a:avLst>
              <a:gd name="adj" fmla="val 937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rc 15"/>
          <p:cNvSpPr/>
          <p:nvPr/>
        </p:nvSpPr>
        <p:spPr>
          <a:xfrm rot="20514000">
            <a:off x="2770200" y="3157200"/>
            <a:ext cx="1654200" cy="865080"/>
          </a:xfrm>
          <a:custGeom>
            <a:avLst/>
            <a:gdLst>
              <a:gd name="textAreaLeft" fmla="*/ 0 w 1654200"/>
              <a:gd name="textAreaRight" fmla="*/ 1654560 w 16542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15852" h="21600">
                <a:moveTo>
                  <a:pt x="-1" y="0"/>
                </a:moveTo>
                <a:cubicBezTo>
                  <a:pt x="6018" y="0"/>
                  <a:pt x="11763" y="2510"/>
                  <a:pt x="15852" y="6927"/>
                </a:cubicBezTo>
              </a:path>
              <a:path stroke="0" w="15852" h="21600">
                <a:moveTo>
                  <a:pt x="-1" y="0"/>
                </a:moveTo>
                <a:cubicBezTo>
                  <a:pt x="6018" y="0"/>
                  <a:pt x="11763" y="2510"/>
                  <a:pt x="15852" y="692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rc 16"/>
          <p:cNvSpPr/>
          <p:nvPr/>
        </p:nvSpPr>
        <p:spPr>
          <a:xfrm flipV="1" rot="1086000">
            <a:off x="2707920" y="3447720"/>
            <a:ext cx="1446120" cy="865080"/>
          </a:xfrm>
          <a:custGeom>
            <a:avLst/>
            <a:gdLst>
              <a:gd name="textAreaLeft" fmla="*/ 0 w 1446120"/>
              <a:gd name="textAreaRight" fmla="*/ 1446480 w 144612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fill="none" w="15505" h="21600">
                <a:moveTo>
                  <a:pt x="-1" y="0"/>
                </a:moveTo>
                <a:cubicBezTo>
                  <a:pt x="5842" y="0"/>
                  <a:pt x="11436" y="2367"/>
                  <a:pt x="15504" y="6561"/>
                </a:cubicBezTo>
              </a:path>
              <a:path stroke="0" w="15505" h="21600">
                <a:moveTo>
                  <a:pt x="-1" y="0"/>
                </a:moveTo>
                <a:cubicBezTo>
                  <a:pt x="5842" y="0"/>
                  <a:pt x="11436" y="2367"/>
                  <a:pt x="15504" y="65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7"/>
          <p:cNvSpPr/>
          <p:nvPr/>
        </p:nvSpPr>
        <p:spPr>
          <a:xfrm rot="711000">
            <a:off x="2410920" y="3429000"/>
            <a:ext cx="432000" cy="64764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8"/>
          <p:cNvSpPr/>
          <p:nvPr/>
        </p:nvSpPr>
        <p:spPr>
          <a:xfrm rot="1260600">
            <a:off x="3276720" y="3213000"/>
            <a:ext cx="431640" cy="10684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9"/>
          <p:cNvSpPr/>
          <p:nvPr/>
        </p:nvSpPr>
        <p:spPr>
          <a:xfrm rot="1260600">
            <a:off x="4181400" y="3349800"/>
            <a:ext cx="432000" cy="79848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rc 20"/>
          <p:cNvSpPr/>
          <p:nvPr/>
        </p:nvSpPr>
        <p:spPr>
          <a:xfrm flipV="1" rot="1175400">
            <a:off x="4078440" y="4077720"/>
            <a:ext cx="217440" cy="216000"/>
          </a:xfrm>
          <a:custGeom>
            <a:avLst/>
            <a:gdLst>
              <a:gd name="textAreaLeft" fmla="*/ 0 w 217440"/>
              <a:gd name="textAreaRight" fmla="*/ 217800 w 21744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rc 21"/>
          <p:cNvSpPr/>
          <p:nvPr/>
        </p:nvSpPr>
        <p:spPr>
          <a:xfrm rot="21429600">
            <a:off x="4281120" y="3212640"/>
            <a:ext cx="217440" cy="14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3348000" y="4221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22"/>
              <p:cNvSpPr txBox="1"/>
              <p:nvPr/>
            </p:nvSpPr>
            <p:spPr>
              <a:xfrm>
                <a:off x="971640" y="5013360"/>
                <a:ext cx="3456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Line 23"/>
          <p:cNvSpPr/>
          <p:nvPr/>
        </p:nvSpPr>
        <p:spPr>
          <a:xfrm flipV="1">
            <a:off x="2484360" y="3933720"/>
            <a:ext cx="935280" cy="93528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4"/>
              <p:cNvSpPr txBox="1"/>
              <p:nvPr/>
            </p:nvSpPr>
            <p:spPr>
              <a:xfrm>
                <a:off x="5651640" y="4724280"/>
                <a:ext cx="24080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7" name="AutoShape 25"/>
          <p:cNvSpPr/>
          <p:nvPr/>
        </p:nvSpPr>
        <p:spPr>
          <a:xfrm>
            <a:off x="4716360" y="5157720"/>
            <a:ext cx="719280" cy="71640"/>
          </a:xfrm>
          <a:prstGeom prst="rightArrow">
            <a:avLst>
              <a:gd name="adj1" fmla="val 50000"/>
              <a:gd name="adj2" fmla="val 25100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6"/>
              <p:cNvSpPr txBox="1"/>
              <p:nvPr/>
            </p:nvSpPr>
            <p:spPr>
              <a:xfrm>
                <a:off x="1754280" y="2473200"/>
                <a:ext cx="2617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Line 27"/>
          <p:cNvSpPr/>
          <p:nvPr/>
        </p:nvSpPr>
        <p:spPr>
          <a:xfrm>
            <a:off x="2627280" y="3789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8"/>
          <p:cNvSpPr/>
          <p:nvPr/>
        </p:nvSpPr>
        <p:spPr>
          <a:xfrm>
            <a:off x="3492360" y="378936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9"/>
          <p:cNvSpPr/>
          <p:nvPr/>
        </p:nvSpPr>
        <p:spPr>
          <a:xfrm>
            <a:off x="2050920" y="378936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4356000" y="3789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0"/>
              <p:cNvSpPr txBox="1"/>
              <p:nvPr/>
            </p:nvSpPr>
            <p:spPr>
              <a:xfrm>
                <a:off x="4211640" y="2276640"/>
                <a:ext cx="10810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Line 31"/>
          <p:cNvSpPr/>
          <p:nvPr/>
        </p:nvSpPr>
        <p:spPr>
          <a:xfrm flipH="1">
            <a:off x="4140000" y="2637000"/>
            <a:ext cx="360360" cy="50472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пределенный интегр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71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преде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волинейной трапеци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ся фигура       на плоскости, ограниченна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ерх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рафиком функции                      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з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трез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бо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ртикальными прямыми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580000" y="2421000"/>
                <a:ext cx="115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536400" y="2878200"/>
                <a:ext cx="1513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O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372360" y="2927520"/>
                <a:ext cx="1725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11"/>
          <p:cNvSpPr/>
          <p:nvPr/>
        </p:nvSpPr>
        <p:spPr>
          <a:xfrm>
            <a:off x="2125440" y="5229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9"/>
          <p:cNvGrpSpPr/>
          <p:nvPr/>
        </p:nvGrpSpPr>
        <p:grpSpPr>
          <a:xfrm>
            <a:off x="1403280" y="3345840"/>
            <a:ext cx="6042240" cy="2757240"/>
            <a:chOff x="1403280" y="3345840"/>
            <a:chExt cx="6042240" cy="2757240"/>
          </a:xfrm>
        </p:grpSpPr>
        <p:sp>
          <p:nvSpPr>
            <p:cNvPr id="91" name="Line 9"/>
            <p:cNvSpPr/>
            <p:nvPr/>
          </p:nvSpPr>
          <p:spPr>
            <a:xfrm>
              <a:off x="2340000" y="3573360"/>
              <a:ext cx="0" cy="216072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0"/>
            <p:cNvSpPr/>
            <p:nvPr/>
          </p:nvSpPr>
          <p:spPr>
            <a:xfrm>
              <a:off x="1403280" y="5300640"/>
              <a:ext cx="5832720" cy="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7165800" y="5300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2052360" y="357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rc 20"/>
            <p:cNvSpPr/>
            <p:nvPr/>
          </p:nvSpPr>
          <p:spPr>
            <a:xfrm flipV="1" rot="11610600">
              <a:off x="3276360" y="3643920"/>
              <a:ext cx="2811240" cy="2160360"/>
            </a:xfrm>
            <a:custGeom>
              <a:avLst/>
              <a:gdLst>
                <a:gd name="textAreaLeft" fmla="*/ 0 w 2811240"/>
                <a:gd name="textAreaRight" fmla="*/ 2811240 w 2811240"/>
                <a:gd name="textAreaTop" fmla="*/ -360 h 2160360"/>
                <a:gd name="textAreaBottom" fmla="*/ 2160360 h 2160360"/>
              </a:gdLst>
              <a:ahLst/>
              <a:rect l="textAreaLeft" t="textAreaTop" r="textAreaRight" b="textAreaBottom"/>
              <a:pathLst>
                <a:path fill="none" w="25360" h="21600">
                  <a:moveTo>
                    <a:pt x="-1" y="525"/>
                  </a:moveTo>
                  <a:cubicBezTo>
                    <a:pt x="1554" y="176"/>
                    <a:pt x="3143" y="-1"/>
                    <a:pt x="4737" y="0"/>
                  </a:cubicBezTo>
                  <a:cubicBezTo>
                    <a:pt x="14192" y="0"/>
                    <a:pt x="22548" y="6150"/>
                    <a:pt x="25360" y="15177"/>
                  </a:cubicBezTo>
                </a:path>
                <a:path stroke="0" w="25360" h="21600">
                  <a:moveTo>
                    <a:pt x="-1" y="525"/>
                  </a:moveTo>
                  <a:cubicBezTo>
                    <a:pt x="1554" y="176"/>
                    <a:pt x="3143" y="-1"/>
                    <a:pt x="4737" y="0"/>
                  </a:cubicBezTo>
                  <a:cubicBezTo>
                    <a:pt x="14192" y="0"/>
                    <a:pt x="22548" y="6150"/>
                    <a:pt x="25360" y="15177"/>
                  </a:cubicBezTo>
                  <a:lnTo>
                    <a:pt x="4737" y="21600"/>
                  </a:lnTo>
                  <a:lnTo>
                    <a:pt x="-1" y="525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1"/>
            <p:cNvSpPr/>
            <p:nvPr/>
          </p:nvSpPr>
          <p:spPr>
            <a:xfrm flipV="1">
              <a:off x="3203640" y="479736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2"/>
            <p:cNvSpPr/>
            <p:nvPr/>
          </p:nvSpPr>
          <p:spPr>
            <a:xfrm>
              <a:off x="6300720" y="4076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23"/>
                <p:cNvSpPr txBox="1"/>
                <p:nvPr/>
              </p:nvSpPr>
              <p:spPr>
                <a:xfrm>
                  <a:off x="3059280" y="5300640"/>
                  <a:ext cx="3063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Object 24"/>
                <p:cNvSpPr txBox="1"/>
                <p:nvPr/>
              </p:nvSpPr>
              <p:spPr>
                <a:xfrm>
                  <a:off x="6156360" y="5262480"/>
                  <a:ext cx="30636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25"/>
                <p:cNvSpPr txBox="1"/>
                <p:nvPr/>
              </p:nvSpPr>
              <p:spPr>
                <a:xfrm>
                  <a:off x="3203640" y="3697200"/>
                  <a:ext cx="108108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Line 26"/>
          <p:cNvSpPr/>
          <p:nvPr/>
        </p:nvSpPr>
        <p:spPr>
          <a:xfrm flipV="1">
            <a:off x="3851280" y="4149360"/>
            <a:ext cx="2376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 flipV="1">
            <a:off x="4500720" y="4365360"/>
            <a:ext cx="1871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 flipV="1">
            <a:off x="4211640" y="4292640"/>
            <a:ext cx="20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 flipV="1">
            <a:off x="3492360" y="4005360"/>
            <a:ext cx="2664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 flipV="1">
            <a:off x="3203640" y="3933360"/>
            <a:ext cx="2736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 flipV="1">
            <a:off x="3203640" y="3860280"/>
            <a:ext cx="2592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 flipV="1">
            <a:off x="3276720" y="3860280"/>
            <a:ext cx="215892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 flipV="1">
            <a:off x="3348000" y="3789000"/>
            <a:ext cx="1871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 flipV="1">
            <a:off x="3564000" y="393372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 flipV="1">
            <a:off x="4859280" y="4581360"/>
            <a:ext cx="14414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6"/>
          <p:cNvSpPr/>
          <p:nvPr/>
        </p:nvSpPr>
        <p:spPr>
          <a:xfrm flipV="1">
            <a:off x="5580000" y="494136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7"/>
          <p:cNvSpPr/>
          <p:nvPr/>
        </p:nvSpPr>
        <p:spPr>
          <a:xfrm flipV="1">
            <a:off x="6012000" y="515736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8"/>
          <p:cNvSpPr/>
          <p:nvPr/>
        </p:nvSpPr>
        <p:spPr>
          <a:xfrm flipV="1">
            <a:off x="5219640" y="4797360"/>
            <a:ext cx="1081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ные случаи криволинейной трапе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2771640" y="306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10"/>
          <p:cNvSpPr/>
          <p:nvPr/>
        </p:nvSpPr>
        <p:spPr>
          <a:xfrm>
            <a:off x="2771640" y="3068640"/>
            <a:ext cx="1079640" cy="8650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1908000" y="2565360"/>
            <a:ext cx="2570760" cy="1726920"/>
            <a:chOff x="1908000" y="2565360"/>
            <a:chExt cx="2570760" cy="1726920"/>
          </a:xfrm>
        </p:grpSpPr>
        <p:sp>
          <p:nvSpPr>
            <p:cNvPr id="118" name="Line 4"/>
            <p:cNvSpPr/>
            <p:nvPr/>
          </p:nvSpPr>
          <p:spPr>
            <a:xfrm>
              <a:off x="1908000" y="393372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V="1">
              <a:off x="2411280" y="2636640"/>
              <a:ext cx="0" cy="16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4212720" y="39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2125080" y="2565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2125080" y="39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11"/>
                <p:cNvSpPr txBox="1"/>
                <p:nvPr/>
              </p:nvSpPr>
              <p:spPr>
                <a:xfrm>
                  <a:off x="2627280" y="4005360"/>
                  <a:ext cx="1969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Object 12"/>
                <p:cNvSpPr txBox="1"/>
                <p:nvPr/>
              </p:nvSpPr>
              <p:spPr>
                <a:xfrm>
                  <a:off x="3780000" y="3933720"/>
                  <a:ext cx="196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Object 13"/>
                <p:cNvSpPr txBox="1"/>
                <p:nvPr/>
              </p:nvSpPr>
              <p:spPr>
                <a:xfrm>
                  <a:off x="3348000" y="2997360"/>
                  <a:ext cx="65268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15"/>
          <p:cNvGrpSpPr/>
          <p:nvPr/>
        </p:nvGrpSpPr>
        <p:grpSpPr>
          <a:xfrm>
            <a:off x="5219640" y="2492280"/>
            <a:ext cx="2570760" cy="1726920"/>
            <a:chOff x="5219640" y="2492280"/>
            <a:chExt cx="2570760" cy="1726920"/>
          </a:xfrm>
        </p:grpSpPr>
        <p:sp>
          <p:nvSpPr>
            <p:cNvPr id="127" name="Line 16"/>
            <p:cNvSpPr/>
            <p:nvPr/>
          </p:nvSpPr>
          <p:spPr>
            <a:xfrm>
              <a:off x="5219640" y="386064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5722920" y="2563560"/>
              <a:ext cx="0" cy="16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>
              <a:off x="7524360" y="38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9"/>
            <p:cNvSpPr/>
            <p:nvPr/>
          </p:nvSpPr>
          <p:spPr>
            <a:xfrm>
              <a:off x="543672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0"/>
            <p:cNvSpPr/>
            <p:nvPr/>
          </p:nvSpPr>
          <p:spPr>
            <a:xfrm>
              <a:off x="5436720" y="38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Object 21"/>
                <p:cNvSpPr txBox="1"/>
                <p:nvPr/>
              </p:nvSpPr>
              <p:spPr>
                <a:xfrm>
                  <a:off x="5938920" y="3932280"/>
                  <a:ext cx="1969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Object 22"/>
                <p:cNvSpPr txBox="1"/>
                <p:nvPr/>
              </p:nvSpPr>
              <p:spPr>
                <a:xfrm>
                  <a:off x="7091640" y="3860640"/>
                  <a:ext cx="196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Object 23"/>
                <p:cNvSpPr txBox="1"/>
                <p:nvPr/>
              </p:nvSpPr>
              <p:spPr>
                <a:xfrm>
                  <a:off x="6659640" y="2924280"/>
                  <a:ext cx="65268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Group 24"/>
          <p:cNvGrpSpPr/>
          <p:nvPr/>
        </p:nvGrpSpPr>
        <p:grpSpPr>
          <a:xfrm>
            <a:off x="2484360" y="4508640"/>
            <a:ext cx="2570760" cy="1726560"/>
            <a:chOff x="2484360" y="4508640"/>
            <a:chExt cx="2570760" cy="1726560"/>
          </a:xfrm>
        </p:grpSpPr>
        <p:sp>
          <p:nvSpPr>
            <p:cNvPr id="136" name="Line 25"/>
            <p:cNvSpPr/>
            <p:nvPr/>
          </p:nvSpPr>
          <p:spPr>
            <a:xfrm>
              <a:off x="2484360" y="587664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2987640" y="4579920"/>
              <a:ext cx="0" cy="165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7"/>
            <p:cNvSpPr/>
            <p:nvPr/>
          </p:nvSpPr>
          <p:spPr>
            <a:xfrm>
              <a:off x="4789080" y="587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2701440" y="4508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2701440" y="587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30"/>
                <p:cNvSpPr txBox="1"/>
                <p:nvPr/>
              </p:nvSpPr>
              <p:spPr>
                <a:xfrm>
                  <a:off x="3203640" y="5948280"/>
                  <a:ext cx="196920" cy="21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31"/>
                <p:cNvSpPr txBox="1"/>
                <p:nvPr/>
              </p:nvSpPr>
              <p:spPr>
                <a:xfrm>
                  <a:off x="4356360" y="5876640"/>
                  <a:ext cx="19656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32"/>
                <p:cNvSpPr txBox="1"/>
                <p:nvPr/>
              </p:nvSpPr>
              <p:spPr>
                <a:xfrm>
                  <a:off x="3924360" y="4940280"/>
                  <a:ext cx="652680" cy="22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Line 33"/>
          <p:cNvSpPr/>
          <p:nvPr/>
        </p:nvSpPr>
        <p:spPr>
          <a:xfrm flipV="1">
            <a:off x="7164360" y="321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34"/>
          <p:cNvSpPr/>
          <p:nvPr/>
        </p:nvSpPr>
        <p:spPr>
          <a:xfrm flipH="1">
            <a:off x="6112800" y="3213000"/>
            <a:ext cx="1049400" cy="865440"/>
          </a:xfrm>
          <a:custGeom>
            <a:avLst/>
            <a:gdLst>
              <a:gd name="textAreaLeft" fmla="*/ -360 w 1049400"/>
              <a:gd name="textAreaRight" fmla="*/ 1049400 w 10494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fill="none" w="20998" h="21600">
                <a:moveTo>
                  <a:pt x="-1" y="0"/>
                </a:moveTo>
                <a:cubicBezTo>
                  <a:pt x="9979" y="0"/>
                  <a:pt x="18659" y="6836"/>
                  <a:pt x="20998" y="16537"/>
                </a:cubicBezTo>
              </a:path>
              <a:path stroke="0" w="20998" h="21600">
                <a:moveTo>
                  <a:pt x="-1" y="0"/>
                </a:moveTo>
                <a:cubicBezTo>
                  <a:pt x="9979" y="0"/>
                  <a:pt x="18659" y="6836"/>
                  <a:pt x="20998" y="165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35"/>
          <p:cNvSpPr/>
          <p:nvPr/>
        </p:nvSpPr>
        <p:spPr>
          <a:xfrm rot="19825800">
            <a:off x="3347640" y="5516280"/>
            <a:ext cx="1025640" cy="6364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fill="none" w="32248" h="24488">
                <a:moveTo>
                  <a:pt x="-1" y="2806"/>
                </a:moveTo>
                <a:cubicBezTo>
                  <a:pt x="3247" y="967"/>
                  <a:pt x="6915" y="-1"/>
                  <a:pt x="10648" y="0"/>
                </a:cubicBezTo>
                <a:cubicBezTo>
                  <a:pt x="22577" y="0"/>
                  <a:pt x="32248" y="9670"/>
                  <a:pt x="32248" y="21600"/>
                </a:cubicBezTo>
                <a:cubicBezTo>
                  <a:pt x="32248" y="22565"/>
                  <a:pt x="32183" y="23530"/>
                  <a:pt x="32054" y="24488"/>
                </a:cubicBezTo>
              </a:path>
              <a:path stroke="0" w="32248" h="24488">
                <a:moveTo>
                  <a:pt x="-1" y="2806"/>
                </a:moveTo>
                <a:cubicBezTo>
                  <a:pt x="3247" y="967"/>
                  <a:pt x="6915" y="-1"/>
                  <a:pt x="10648" y="0"/>
                </a:cubicBezTo>
                <a:cubicBezTo>
                  <a:pt x="22577" y="0"/>
                  <a:pt x="32248" y="9670"/>
                  <a:pt x="32248" y="21600"/>
                </a:cubicBezTo>
                <a:cubicBezTo>
                  <a:pt x="32248" y="22565"/>
                  <a:pt x="32183" y="23530"/>
                  <a:pt x="32054" y="24488"/>
                </a:cubicBezTo>
                <a:lnTo>
                  <a:pt x="10648" y="21600"/>
                </a:lnTo>
                <a:lnTo>
                  <a:pt x="-1" y="2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6"/>
          <p:cNvSpPr/>
          <p:nvPr/>
        </p:nvSpPr>
        <p:spPr>
          <a:xfrm flipV="1">
            <a:off x="2771640" y="3357720"/>
            <a:ext cx="792360" cy="57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7"/>
          <p:cNvSpPr/>
          <p:nvPr/>
        </p:nvSpPr>
        <p:spPr>
          <a:xfrm flipV="1">
            <a:off x="2987640" y="3500280"/>
            <a:ext cx="647640" cy="433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8"/>
          <p:cNvSpPr/>
          <p:nvPr/>
        </p:nvSpPr>
        <p:spPr>
          <a:xfrm flipV="1">
            <a:off x="2771640" y="3284640"/>
            <a:ext cx="648000" cy="433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 flipV="1">
            <a:off x="2771640" y="3141360"/>
            <a:ext cx="505080" cy="4302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 flipV="1">
            <a:off x="3276720" y="3573000"/>
            <a:ext cx="503280" cy="360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1"/>
          <p:cNvSpPr/>
          <p:nvPr/>
        </p:nvSpPr>
        <p:spPr>
          <a:xfrm flipV="1">
            <a:off x="3492360" y="3716280"/>
            <a:ext cx="287640" cy="217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2"/>
          <p:cNvSpPr/>
          <p:nvPr/>
        </p:nvSpPr>
        <p:spPr>
          <a:xfrm flipV="1">
            <a:off x="2771640" y="3141720"/>
            <a:ext cx="287640" cy="21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3"/>
          <p:cNvSpPr/>
          <p:nvPr/>
        </p:nvSpPr>
        <p:spPr>
          <a:xfrm flipV="1">
            <a:off x="6516720" y="3357360"/>
            <a:ext cx="647640" cy="50292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 flipV="1">
            <a:off x="3708360" y="5589720"/>
            <a:ext cx="432000" cy="28728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5"/>
          <p:cNvSpPr/>
          <p:nvPr/>
        </p:nvSpPr>
        <p:spPr>
          <a:xfrm flipV="1">
            <a:off x="3419640" y="5516280"/>
            <a:ext cx="576000" cy="360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6"/>
          <p:cNvSpPr/>
          <p:nvPr/>
        </p:nvSpPr>
        <p:spPr>
          <a:xfrm flipV="1">
            <a:off x="6156360" y="3212640"/>
            <a:ext cx="792000" cy="576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7"/>
          <p:cNvSpPr/>
          <p:nvPr/>
        </p:nvSpPr>
        <p:spPr>
          <a:xfrm flipV="1">
            <a:off x="6300720" y="3212640"/>
            <a:ext cx="863640" cy="6476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8"/>
          <p:cNvSpPr/>
          <p:nvPr/>
        </p:nvSpPr>
        <p:spPr>
          <a:xfrm flipV="1">
            <a:off x="6732720" y="3573360"/>
            <a:ext cx="431640" cy="28728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9"/>
          <p:cNvSpPr/>
          <p:nvPr/>
        </p:nvSpPr>
        <p:spPr>
          <a:xfrm flipV="1">
            <a:off x="4140360" y="5733720"/>
            <a:ext cx="215640" cy="14292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3924360" y="5661000"/>
            <a:ext cx="360360" cy="21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76360" y="40428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дача о площади криволинейной трапе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101"/>
          <p:cNvGrpSpPr/>
          <p:nvPr/>
        </p:nvGrpSpPr>
        <p:grpSpPr>
          <a:xfrm>
            <a:off x="3708360" y="2133360"/>
            <a:ext cx="2303640" cy="2159280"/>
            <a:chOff x="3708360" y="2133360"/>
            <a:chExt cx="2303640" cy="2159280"/>
          </a:xfrm>
        </p:grpSpPr>
        <p:sp>
          <p:nvSpPr>
            <p:cNvPr id="164" name="Line 16"/>
            <p:cNvSpPr/>
            <p:nvPr/>
          </p:nvSpPr>
          <p:spPr>
            <a:xfrm flipV="1">
              <a:off x="3708360" y="3357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 flipV="1">
              <a:off x="3995640" y="314136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8"/>
            <p:cNvSpPr/>
            <p:nvPr/>
          </p:nvSpPr>
          <p:spPr>
            <a:xfrm flipV="1">
              <a:off x="4356000" y="29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9"/>
            <p:cNvSpPr/>
            <p:nvPr/>
          </p:nvSpPr>
          <p:spPr>
            <a:xfrm flipV="1">
              <a:off x="6012000" y="213336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0"/>
            <p:cNvSpPr/>
            <p:nvPr/>
          </p:nvSpPr>
          <p:spPr>
            <a:xfrm flipV="1">
              <a:off x="4932360" y="2852640"/>
              <a:ext cx="0" cy="144000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1"/>
            <p:cNvSpPr/>
            <p:nvPr/>
          </p:nvSpPr>
          <p:spPr>
            <a:xfrm flipV="1">
              <a:off x="5364000" y="2565360"/>
              <a:ext cx="0" cy="172728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38"/>
          <p:cNvSpPr/>
          <p:nvPr/>
        </p:nvSpPr>
        <p:spPr>
          <a:xfrm flipV="1">
            <a:off x="5219640" y="4149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 flipH="1">
            <a:off x="3850920" y="4653000"/>
            <a:ext cx="865080" cy="504720"/>
          </a:xfrm>
          <a:prstGeom prst="line">
            <a:avLst/>
          </a:prstGeom>
          <a:ln w="381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02"/>
          <p:cNvGrpSpPr/>
          <p:nvPr/>
        </p:nvGrpSpPr>
        <p:grpSpPr>
          <a:xfrm>
            <a:off x="3564000" y="2636640"/>
            <a:ext cx="2143080" cy="2071800"/>
            <a:chOff x="3564000" y="2636640"/>
            <a:chExt cx="2143080" cy="2071800"/>
          </a:xfrm>
        </p:grpSpPr>
        <p:sp>
          <p:nvSpPr>
            <p:cNvPr id="173" name="Line 31"/>
            <p:cNvSpPr/>
            <p:nvPr/>
          </p:nvSpPr>
          <p:spPr>
            <a:xfrm flipV="1">
              <a:off x="4932360" y="278100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 flipV="1">
              <a:off x="4932360" y="292392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 flipV="1">
              <a:off x="493236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4932360" y="321300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5"/>
            <p:cNvSpPr/>
            <p:nvPr/>
          </p:nvSpPr>
          <p:spPr>
            <a:xfrm flipV="1">
              <a:off x="4932360" y="335736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 flipV="1">
              <a:off x="4932360" y="350028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7"/>
            <p:cNvSpPr/>
            <p:nvPr/>
          </p:nvSpPr>
          <p:spPr>
            <a:xfrm flipV="1">
              <a:off x="4932360" y="364464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9"/>
            <p:cNvSpPr/>
            <p:nvPr/>
          </p:nvSpPr>
          <p:spPr>
            <a:xfrm flipV="1">
              <a:off x="5003640" y="3933360"/>
              <a:ext cx="36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0"/>
            <p:cNvSpPr/>
            <p:nvPr/>
          </p:nvSpPr>
          <p:spPr>
            <a:xfrm flipV="1">
              <a:off x="4932360" y="378900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00"/>
            <p:cNvGrpSpPr/>
            <p:nvPr/>
          </p:nvGrpSpPr>
          <p:grpSpPr>
            <a:xfrm>
              <a:off x="3564000" y="4149720"/>
              <a:ext cx="2143080" cy="558720"/>
              <a:chOff x="3564000" y="4149720"/>
              <a:chExt cx="2143080" cy="558720"/>
            </a:xfrm>
          </p:grpSpPr>
          <mc:AlternateContent>
            <mc:Choice xmlns:a14="http://schemas.microsoft.com/office/drawing/2010/main" Requires="a14">
              <p:sp>
                <p:nvSpPr>
                  <p:cNvPr id="183" name="Object 23"/>
                  <p:cNvSpPr txBox="1"/>
                  <p:nvPr/>
                </p:nvSpPr>
                <p:spPr>
                  <a:xfrm>
                    <a:off x="3564000" y="4149720"/>
                    <a:ext cx="36180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4" name="Object 25"/>
                  <p:cNvSpPr txBox="1"/>
                  <p:nvPr/>
                </p:nvSpPr>
                <p:spPr>
                  <a:xfrm>
                    <a:off x="3851280" y="4149720"/>
                    <a:ext cx="38412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5" name="Object 27"/>
                  <p:cNvSpPr txBox="1"/>
                  <p:nvPr/>
                </p:nvSpPr>
                <p:spPr>
                  <a:xfrm>
                    <a:off x="4211640" y="4149720"/>
                    <a:ext cx="34776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6" name="Object 28"/>
                  <p:cNvSpPr txBox="1"/>
                  <p:nvPr/>
                </p:nvSpPr>
                <p:spPr>
                  <a:xfrm>
                    <a:off x="4788000" y="4221000"/>
                    <a:ext cx="34740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7" name="Object 29"/>
                  <p:cNvSpPr txBox="1"/>
                  <p:nvPr/>
                </p:nvSpPr>
                <p:spPr>
                  <a:xfrm>
                    <a:off x="5219640" y="4221000"/>
                    <a:ext cx="487440" cy="48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8" name="Line 47"/>
            <p:cNvSpPr/>
            <p:nvPr/>
          </p:nvSpPr>
          <p:spPr>
            <a:xfrm flipV="1">
              <a:off x="4932360" y="263664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05"/>
          <p:cNvGrpSpPr/>
          <p:nvPr/>
        </p:nvGrpSpPr>
        <p:grpSpPr>
          <a:xfrm>
            <a:off x="1403280" y="5084640"/>
            <a:ext cx="1728720" cy="1440000"/>
            <a:chOff x="1403280" y="5084640"/>
            <a:chExt cx="1728720" cy="1440000"/>
          </a:xfrm>
        </p:grpSpPr>
        <p:sp>
          <p:nvSpPr>
            <p:cNvPr id="190" name="Oval 54"/>
            <p:cNvSpPr/>
            <p:nvPr/>
          </p:nvSpPr>
          <p:spPr>
            <a:xfrm>
              <a:off x="2916360" y="645336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8"/>
            <p:cNvSpPr/>
            <p:nvPr/>
          </p:nvSpPr>
          <p:spPr>
            <a:xfrm>
              <a:off x="2916360" y="530064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9"/>
            <p:cNvSpPr/>
            <p:nvPr/>
          </p:nvSpPr>
          <p:spPr>
            <a:xfrm>
              <a:off x="2627280" y="5300640"/>
              <a:ext cx="504720" cy="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0"/>
            <p:cNvSpPr/>
            <p:nvPr/>
          </p:nvSpPr>
          <p:spPr>
            <a:xfrm flipH="1">
              <a:off x="1979280" y="53006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61"/>
                <p:cNvSpPr txBox="1"/>
                <p:nvPr/>
              </p:nvSpPr>
              <p:spPr>
                <a:xfrm>
                  <a:off x="1403280" y="5084640"/>
                  <a:ext cx="67176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Group 104"/>
          <p:cNvGrpSpPr/>
          <p:nvPr/>
        </p:nvGrpSpPr>
        <p:grpSpPr>
          <a:xfrm>
            <a:off x="1979640" y="4581000"/>
            <a:ext cx="2233440" cy="2277000"/>
            <a:chOff x="1979640" y="4581000"/>
            <a:chExt cx="2233440" cy="2277000"/>
          </a:xfrm>
        </p:grpSpPr>
        <p:sp>
          <p:nvSpPr>
            <p:cNvPr id="196" name="Line 63"/>
            <p:cNvSpPr/>
            <p:nvPr/>
          </p:nvSpPr>
          <p:spPr>
            <a:xfrm flipV="1">
              <a:off x="2627280" y="515772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103"/>
            <p:cNvGrpSpPr/>
            <p:nvPr/>
          </p:nvGrpSpPr>
          <p:grpSpPr>
            <a:xfrm>
              <a:off x="1979640" y="4581000"/>
              <a:ext cx="2233440" cy="2277000"/>
              <a:chOff x="1979640" y="4581000"/>
              <a:chExt cx="2233440" cy="2277000"/>
            </a:xfrm>
          </p:grpSpPr>
          <p:sp>
            <p:nvSpPr>
              <p:cNvPr id="198" name="Line 42"/>
              <p:cNvSpPr/>
              <p:nvPr/>
            </p:nvSpPr>
            <p:spPr>
              <a:xfrm>
                <a:off x="1979640" y="6524640"/>
                <a:ext cx="223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43"/>
              <p:cNvSpPr/>
              <p:nvPr/>
            </p:nvSpPr>
            <p:spPr>
              <a:xfrm>
                <a:off x="2627280" y="5300640"/>
                <a:ext cx="0" cy="1224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44"/>
              <p:cNvSpPr/>
              <p:nvPr/>
            </p:nvSpPr>
            <p:spPr>
              <a:xfrm>
                <a:off x="3132000" y="5084640"/>
                <a:ext cx="0" cy="1440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48"/>
              <p:cNvSpPr/>
              <p:nvPr/>
            </p:nvSpPr>
            <p:spPr>
              <a:xfrm flipV="1">
                <a:off x="2627280" y="4580640"/>
                <a:ext cx="527040" cy="79380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-360 h 793800"/>
                  <a:gd name="textAreaBottom" fmla="*/ 793800 h 793800"/>
                </a:gdLst>
                <a:ahLst/>
                <a:rect l="textAreaLeft" t="textAreaTop" r="textAreaRight" b="textAreaBottom"/>
                <a:pathLst>
                  <a:path fill="none" w="17594" h="21600">
                    <a:moveTo>
                      <a:pt x="-1" y="0"/>
                    </a:moveTo>
                    <a:cubicBezTo>
                      <a:pt x="6986" y="0"/>
                      <a:pt x="13541" y="3379"/>
                      <a:pt x="17594" y="9069"/>
                    </a:cubicBezTo>
                  </a:path>
                  <a:path stroke="0" w="17594" h="21600">
                    <a:moveTo>
                      <a:pt x="-1" y="0"/>
                    </a:moveTo>
                    <a:cubicBezTo>
                      <a:pt x="6986" y="0"/>
                      <a:pt x="13541" y="3379"/>
                      <a:pt x="17594" y="906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49"/>
              <p:cNvSpPr/>
              <p:nvPr/>
            </p:nvSpPr>
            <p:spPr>
              <a:xfrm flipV="1">
                <a:off x="1979640" y="4797360"/>
                <a:ext cx="0" cy="172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3" name="Object 50"/>
                  <p:cNvSpPr txBox="1"/>
                  <p:nvPr/>
                </p:nvSpPr>
                <p:spPr>
                  <a:xfrm>
                    <a:off x="2484360" y="6370560"/>
                    <a:ext cx="34776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4" name="Object 51"/>
                  <p:cNvSpPr txBox="1"/>
                  <p:nvPr/>
                </p:nvSpPr>
                <p:spPr>
                  <a:xfrm>
                    <a:off x="2987640" y="6372360"/>
                    <a:ext cx="487440" cy="48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5" name="Object 62"/>
                  <p:cNvSpPr txBox="1"/>
                  <p:nvPr/>
                </p:nvSpPr>
                <p:spPr>
                  <a:xfrm>
                    <a:off x="2771640" y="6453360"/>
                    <a:ext cx="29052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6" name="Line 64"/>
              <p:cNvSpPr/>
              <p:nvPr/>
            </p:nvSpPr>
            <p:spPr>
              <a:xfrm flipV="1">
                <a:off x="2627280" y="5229360"/>
                <a:ext cx="50472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Line 65"/>
            <p:cNvSpPr/>
            <p:nvPr/>
          </p:nvSpPr>
          <p:spPr>
            <a:xfrm flipV="1">
              <a:off x="2700360" y="616572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V="1">
              <a:off x="2916360" y="630864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0"/>
            <p:cNvSpPr/>
            <p:nvPr/>
          </p:nvSpPr>
          <p:spPr>
            <a:xfrm flipV="1">
              <a:off x="2627280" y="5444640"/>
              <a:ext cx="504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71"/>
            <p:cNvSpPr/>
            <p:nvPr/>
          </p:nvSpPr>
          <p:spPr>
            <a:xfrm flipV="1">
              <a:off x="2627280" y="558972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72"/>
            <p:cNvSpPr/>
            <p:nvPr/>
          </p:nvSpPr>
          <p:spPr>
            <a:xfrm flipV="1">
              <a:off x="2627280" y="573408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3"/>
            <p:cNvSpPr/>
            <p:nvPr/>
          </p:nvSpPr>
          <p:spPr>
            <a:xfrm flipV="1">
              <a:off x="2627280" y="587700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4"/>
            <p:cNvSpPr/>
            <p:nvPr/>
          </p:nvSpPr>
          <p:spPr>
            <a:xfrm flipV="1">
              <a:off x="2627280" y="602136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84"/>
          <p:cNvSpPr/>
          <p:nvPr/>
        </p:nvSpPr>
        <p:spPr>
          <a:xfrm flipV="1">
            <a:off x="4284720" y="2997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3"/>
          <p:cNvGrpSpPr/>
          <p:nvPr/>
        </p:nvGrpSpPr>
        <p:grpSpPr>
          <a:xfrm>
            <a:off x="3492360" y="4221000"/>
            <a:ext cx="2808360" cy="69840"/>
            <a:chOff x="3492360" y="4221000"/>
            <a:chExt cx="2808360" cy="69840"/>
          </a:xfrm>
        </p:grpSpPr>
        <p:sp>
          <p:nvSpPr>
            <p:cNvPr id="216" name="Oval 52"/>
            <p:cNvSpPr/>
            <p:nvPr/>
          </p:nvSpPr>
          <p:spPr>
            <a:xfrm>
              <a:off x="349236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385128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5"/>
            <p:cNvSpPr/>
            <p:nvPr/>
          </p:nvSpPr>
          <p:spPr>
            <a:xfrm>
              <a:off x="5219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56"/>
            <p:cNvSpPr/>
            <p:nvPr/>
          </p:nvSpPr>
          <p:spPr>
            <a:xfrm>
              <a:off x="6227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7"/>
            <p:cNvSpPr/>
            <p:nvPr/>
          </p:nvSpPr>
          <p:spPr>
            <a:xfrm>
              <a:off x="4211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14"/>
          <p:cNvGrpSpPr/>
          <p:nvPr/>
        </p:nvGrpSpPr>
        <p:grpSpPr>
          <a:xfrm>
            <a:off x="3492360" y="2142720"/>
            <a:ext cx="2735280" cy="2159280"/>
            <a:chOff x="3492360" y="2142720"/>
            <a:chExt cx="2735280" cy="2159280"/>
          </a:xfrm>
        </p:grpSpPr>
        <p:sp>
          <p:nvSpPr>
            <p:cNvPr id="222" name="Line 76"/>
            <p:cNvSpPr/>
            <p:nvPr/>
          </p:nvSpPr>
          <p:spPr>
            <a:xfrm flipV="1">
              <a:off x="3492360" y="358272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7"/>
            <p:cNvSpPr/>
            <p:nvPr/>
          </p:nvSpPr>
          <p:spPr>
            <a:xfrm flipV="1">
              <a:off x="3851280" y="3294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8"/>
            <p:cNvSpPr/>
            <p:nvPr/>
          </p:nvSpPr>
          <p:spPr>
            <a:xfrm flipV="1">
              <a:off x="4284720" y="3006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9"/>
            <p:cNvSpPr/>
            <p:nvPr/>
          </p:nvSpPr>
          <p:spPr>
            <a:xfrm flipV="1">
              <a:off x="5219640" y="270792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0"/>
            <p:cNvSpPr/>
            <p:nvPr/>
          </p:nvSpPr>
          <p:spPr>
            <a:xfrm flipV="1">
              <a:off x="6227640" y="214272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97"/>
          <p:cNvGrpSpPr/>
          <p:nvPr/>
        </p:nvGrpSpPr>
        <p:grpSpPr>
          <a:xfrm>
            <a:off x="2627280" y="2708280"/>
            <a:ext cx="4297320" cy="1976400"/>
            <a:chOff x="2627280" y="2708280"/>
            <a:chExt cx="4297320" cy="1976400"/>
          </a:xfrm>
        </p:grpSpPr>
        <mc:AlternateContent>
          <mc:Choice xmlns:a14="http://schemas.microsoft.com/office/drawing/2010/main" Requires="a14">
            <p:sp>
              <p:nvSpPr>
                <p:cNvPr id="228" name="Object 12"/>
                <p:cNvSpPr txBox="1"/>
                <p:nvPr/>
              </p:nvSpPr>
              <p:spPr>
                <a:xfrm>
                  <a:off x="2627280" y="4149720"/>
                  <a:ext cx="70632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13"/>
                <p:cNvSpPr txBox="1"/>
                <p:nvPr/>
              </p:nvSpPr>
              <p:spPr>
                <a:xfrm>
                  <a:off x="6157800" y="4149720"/>
                  <a:ext cx="7668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14"/>
                <p:cNvSpPr txBox="1"/>
                <p:nvPr/>
              </p:nvSpPr>
              <p:spPr>
                <a:xfrm>
                  <a:off x="3206880" y="2708280"/>
                  <a:ext cx="108108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112"/>
          <p:cNvGrpSpPr/>
          <p:nvPr/>
        </p:nvGrpSpPr>
        <p:grpSpPr>
          <a:xfrm>
            <a:off x="1476360" y="2060280"/>
            <a:ext cx="6042240" cy="2945160"/>
            <a:chOff x="1476360" y="2060280"/>
            <a:chExt cx="6042240" cy="2945160"/>
          </a:xfrm>
        </p:grpSpPr>
        <p:sp>
          <p:nvSpPr>
            <p:cNvPr id="232" name="Arc 9"/>
            <p:cNvSpPr/>
            <p:nvPr/>
          </p:nvSpPr>
          <p:spPr>
            <a:xfrm flipV="1" rot="11610600">
              <a:off x="3341160" y="2778480"/>
              <a:ext cx="2291040" cy="1986480"/>
            </a:xfrm>
            <a:custGeom>
              <a:avLst/>
              <a:gdLst>
                <a:gd name="textAreaLeft" fmla="*/ 0 w 2291040"/>
                <a:gd name="textAreaRight" fmla="*/ 2291400 w 2291040"/>
                <a:gd name="textAreaTop" fmla="*/ 360 h 1986480"/>
                <a:gd name="textAreaBottom" fmla="*/ 1987200 h 1986480"/>
              </a:gdLst>
              <a:ahLst/>
              <a:rect l="textAreaLeft" t="textAreaTop" r="textAreaRight" b="textAreaBottom"/>
              <a:pathLst>
                <a:path fill="none" w="20678" h="19845">
                  <a:moveTo>
                    <a:pt x="8528" y="-1"/>
                  </a:moveTo>
                  <a:cubicBezTo>
                    <a:pt x="14387" y="2517"/>
                    <a:pt x="18835" y="7497"/>
                    <a:pt x="20678" y="13602"/>
                  </a:cubicBezTo>
                </a:path>
                <a:path stroke="0" w="20678" h="19845">
                  <a:moveTo>
                    <a:pt x="8528" y="-1"/>
                  </a:moveTo>
                  <a:cubicBezTo>
                    <a:pt x="14387" y="2517"/>
                    <a:pt x="18835" y="7497"/>
                    <a:pt x="20678" y="13602"/>
                  </a:cubicBezTo>
                  <a:lnTo>
                    <a:pt x="0" y="19845"/>
                  </a:lnTo>
                  <a:lnTo>
                    <a:pt x="8528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rc 46"/>
            <p:cNvSpPr/>
            <p:nvPr/>
          </p:nvSpPr>
          <p:spPr>
            <a:xfrm flipH="1">
              <a:off x="5362560" y="2133720"/>
              <a:ext cx="1014480" cy="431640"/>
            </a:xfrm>
            <a:custGeom>
              <a:avLst/>
              <a:gdLst>
                <a:gd name="textAreaLeft" fmla="*/ 360 w 1014480"/>
                <a:gd name="textAreaRight" fmla="*/ 1015200 w 10144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2365" h="21600">
                  <a:moveTo>
                    <a:pt x="-1" y="13"/>
                  </a:moveTo>
                  <a:cubicBezTo>
                    <a:pt x="254" y="4"/>
                    <a:pt x="509" y="-1"/>
                    <a:pt x="765" y="0"/>
                  </a:cubicBezTo>
                  <a:cubicBezTo>
                    <a:pt x="12694" y="0"/>
                    <a:pt x="22365" y="9670"/>
                    <a:pt x="22365" y="21600"/>
                  </a:cubicBezTo>
                </a:path>
                <a:path stroke="0" w="22365" h="21600">
                  <a:moveTo>
                    <a:pt x="-1" y="13"/>
                  </a:moveTo>
                  <a:cubicBezTo>
                    <a:pt x="254" y="4"/>
                    <a:pt x="509" y="-1"/>
                    <a:pt x="765" y="0"/>
                  </a:cubicBezTo>
                  <a:cubicBezTo>
                    <a:pt x="12694" y="0"/>
                    <a:pt x="22365" y="9670"/>
                    <a:pt x="22365" y="21600"/>
                  </a:cubicBezTo>
                  <a:lnTo>
                    <a:pt x="765" y="21600"/>
                  </a:lnTo>
                  <a:lnTo>
                    <a:pt x="-1" y="13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rc 45"/>
            <p:cNvSpPr/>
            <p:nvPr/>
          </p:nvSpPr>
          <p:spPr>
            <a:xfrm flipV="1">
              <a:off x="4842000" y="2059920"/>
              <a:ext cx="527040" cy="793800"/>
            </a:xfrm>
            <a:custGeom>
              <a:avLst/>
              <a:gdLst>
                <a:gd name="textAreaLeft" fmla="*/ 0 w 527040"/>
                <a:gd name="textAreaRight" fmla="*/ 527040 w 527040"/>
                <a:gd name="textAreaTop" fmla="*/ -360 h 793800"/>
                <a:gd name="textAreaBottom" fmla="*/ 793800 h 793800"/>
              </a:gdLst>
              <a:ahLst/>
              <a:rect l="textAreaLeft" t="textAreaTop" r="textAreaRight" b="textAreaBottom"/>
              <a:pathLst>
                <a:path fill="none" w="17594" h="21600">
                  <a:moveTo>
                    <a:pt x="-1" y="0"/>
                  </a:moveTo>
                  <a:cubicBezTo>
                    <a:pt x="6986" y="0"/>
                    <a:pt x="13541" y="3379"/>
                    <a:pt x="17594" y="9069"/>
                  </a:cubicBezTo>
                </a:path>
                <a:path stroke="0" w="17594" h="21600">
                  <a:moveTo>
                    <a:pt x="-1" y="0"/>
                  </a:moveTo>
                  <a:cubicBezTo>
                    <a:pt x="6986" y="0"/>
                    <a:pt x="13541" y="3379"/>
                    <a:pt x="17594" y="906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>
              <a:off x="2413080" y="2589120"/>
              <a:ext cx="0" cy="216072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1476360" y="4292640"/>
              <a:ext cx="5832360" cy="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7"/>
            <p:cNvSpPr/>
            <p:nvPr/>
          </p:nvSpPr>
          <p:spPr>
            <a:xfrm>
              <a:off x="7238880" y="431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2125440" y="2589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 flipV="1">
              <a:off x="3276720" y="38131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6354720" y="2133720"/>
              <a:ext cx="19080" cy="2182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5"/>
            <p:cNvSpPr/>
            <p:nvPr/>
          </p:nvSpPr>
          <p:spPr>
            <a:xfrm>
              <a:off x="2179440" y="42210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15"/>
          <p:cNvGrpSpPr/>
          <p:nvPr/>
        </p:nvGrpSpPr>
        <p:grpSpPr>
          <a:xfrm>
            <a:off x="3276720" y="2143080"/>
            <a:ext cx="3095640" cy="1655640"/>
            <a:chOff x="3276720" y="2143080"/>
            <a:chExt cx="3095640" cy="1655640"/>
          </a:xfrm>
        </p:grpSpPr>
        <p:sp>
          <p:nvSpPr>
            <p:cNvPr id="243" name="Line 82"/>
            <p:cNvSpPr/>
            <p:nvPr/>
          </p:nvSpPr>
          <p:spPr>
            <a:xfrm>
              <a:off x="3708360" y="3284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3"/>
            <p:cNvSpPr/>
            <p:nvPr/>
          </p:nvSpPr>
          <p:spPr>
            <a:xfrm>
              <a:off x="3995640" y="2997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81"/>
            <p:cNvSpPr/>
            <p:nvPr/>
          </p:nvSpPr>
          <p:spPr>
            <a:xfrm>
              <a:off x="3276720" y="3573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 flipH="1">
              <a:off x="5940360" y="2143080"/>
              <a:ext cx="43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 flipH="1">
              <a:off x="4932000" y="2717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2"/>
            <p:cNvSpPr/>
            <p:nvPr/>
          </p:nvSpPr>
          <p:spPr>
            <a:xfrm>
              <a:off x="3276720" y="35830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3"/>
            <p:cNvSpPr/>
            <p:nvPr/>
          </p:nvSpPr>
          <p:spPr>
            <a:xfrm>
              <a:off x="4932360" y="2717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94"/>
            <p:cNvSpPr/>
            <p:nvPr/>
          </p:nvSpPr>
          <p:spPr>
            <a:xfrm flipV="1">
              <a:off x="3691080" y="32842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95"/>
            <p:cNvSpPr/>
            <p:nvPr/>
          </p:nvSpPr>
          <p:spPr>
            <a:xfrm flipV="1">
              <a:off x="3995640" y="2997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06"/>
              <p:cNvSpPr txBox="1"/>
              <p:nvPr/>
            </p:nvSpPr>
            <p:spPr>
              <a:xfrm>
                <a:off x="3276720" y="5229360"/>
                <a:ext cx="2808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8"/>
              <p:cNvSpPr txBox="1"/>
              <p:nvPr/>
            </p:nvSpPr>
            <p:spPr>
              <a:xfrm>
                <a:off x="4211640" y="5724360"/>
                <a:ext cx="352908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≈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Rectangle 116"/>
          <p:cNvSpPr/>
          <p:nvPr/>
        </p:nvSpPr>
        <p:spPr>
          <a:xfrm>
            <a:off x="5940360" y="5805360"/>
            <a:ext cx="1944720" cy="936720"/>
          </a:xfrm>
          <a:prstGeom prst="rect">
            <a:avLst/>
          </a:prstGeom>
          <a:noFill/>
          <a:ln w="2844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235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ж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нтегральной суммой Рима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матриваем всевозможные разби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иволинейной трапеции на части такие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ставляем интегральные су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ереходим к пределу пр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2340000" y="3933720"/>
                <a:ext cx="2014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6"/>
              <p:cNvSpPr txBox="1"/>
              <p:nvPr/>
            </p:nvSpPr>
            <p:spPr>
              <a:xfrm>
                <a:off x="2987640" y="2205000"/>
                <a:ext cx="1476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8"/>
              <p:cNvSpPr txBox="1"/>
              <p:nvPr/>
            </p:nvSpPr>
            <p:spPr>
              <a:xfrm>
                <a:off x="4284720" y="4508640"/>
                <a:ext cx="766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1908000" y="4869000"/>
                <a:ext cx="331344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0" name="Rectangle 10"/>
          <p:cNvSpPr/>
          <p:nvPr/>
        </p:nvSpPr>
        <p:spPr>
          <a:xfrm>
            <a:off x="1908000" y="4869000"/>
            <a:ext cx="3311640" cy="1152360"/>
          </a:xfrm>
          <a:prstGeom prst="rect">
            <a:avLst/>
          </a:prstGeom>
          <a:noFill/>
          <a:ln w="2844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2" descr="Bernhard rieman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765000"/>
            <a:ext cx="1904760" cy="2352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1"/>
          <p:cNvSpPr/>
          <p:nvPr/>
        </p:nvSpPr>
        <p:spPr>
          <a:xfrm>
            <a:off x="6372360" y="3213000"/>
            <a:ext cx="244764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еорг Фридр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ернхард Ри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1f497d"/>
                </a:solidFill>
                <a:latin typeface="Arial"/>
              </a:rPr>
              <a:t>Georg-Friedric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Bernhard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Rie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Немецкий матема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1826-186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567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енным интегралом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функции              по отрез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ся предел интегральных су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наибольший из участков разби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ся к нул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Геометрический смыс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796000" y="1916280"/>
                <a:ext cx="681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8101080" y="1844640"/>
                <a:ext cx="820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3419640" y="2637000"/>
                <a:ext cx="1439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9"/>
              <p:cNvSpPr txBox="1"/>
              <p:nvPr/>
            </p:nvSpPr>
            <p:spPr>
              <a:xfrm>
                <a:off x="3276720" y="4149720"/>
                <a:ext cx="3186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"/>
              <p:cNvSpPr txBox="1"/>
              <p:nvPr/>
            </p:nvSpPr>
            <p:spPr>
              <a:xfrm>
                <a:off x="2124000" y="5445000"/>
                <a:ext cx="51847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1"/>
              <p:cNvSpPr txBox="1"/>
              <p:nvPr/>
            </p:nvSpPr>
            <p:spPr>
              <a:xfrm>
                <a:off x="5796000" y="3645000"/>
                <a:ext cx="1792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существует преде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предел не зависит от способа разбие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орема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ерывна на                              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о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ируе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о есть существует предел интегральных су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н не зависит от способа разбиений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2268360" y="3357720"/>
                <a:ext cx="6764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5"/>
              <p:cNvSpPr txBox="1"/>
              <p:nvPr/>
            </p:nvSpPr>
            <p:spPr>
              <a:xfrm>
                <a:off x="5003640" y="3357720"/>
                <a:ext cx="747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й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Линей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86872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324000" y="2852640"/>
                <a:ext cx="44640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±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395280" y="3860640"/>
                <a:ext cx="302580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C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AutoShape 8"/>
          <p:cNvSpPr/>
          <p:nvPr/>
        </p:nvSpPr>
        <p:spPr>
          <a:xfrm>
            <a:off x="4788000" y="3213000"/>
            <a:ext cx="144360" cy="2016360"/>
          </a:xfrm>
          <a:custGeom>
            <a:avLst/>
            <a:gdLst>
              <a:gd name="textAreaLeft" fmla="*/ 0 w 144360"/>
              <a:gd name="textAreaRight" fmla="*/ 52200 w 144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5580000" y="2781360"/>
                <a:ext cx="338472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AutoShape 10"/>
          <p:cNvSpPr/>
          <p:nvPr/>
        </p:nvSpPr>
        <p:spPr>
          <a:xfrm>
            <a:off x="5076720" y="414972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5508720" y="2852640"/>
            <a:ext cx="345600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4920" y="1267920"/>
            <a:ext cx="8163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казательство свойст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ля сумм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ьмем разбиение             н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е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ыберем в каждой части точ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м интегральную сум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атриваем всевозможные разбиения              на части такие,  что все              уменьшаются , составляем интегральные суммы   и переходим к пределу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700360" y="1700280"/>
                <a:ext cx="576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5219640" y="1628640"/>
                <a:ext cx="28083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6"/>
              <p:cNvSpPr txBox="1"/>
              <p:nvPr/>
            </p:nvSpPr>
            <p:spPr>
              <a:xfrm>
                <a:off x="4716360" y="1989000"/>
                <a:ext cx="1297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4643280" y="2349360"/>
                <a:ext cx="23990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826920" y="3141720"/>
                <a:ext cx="52740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9"/>
              <p:cNvSpPr txBox="1"/>
              <p:nvPr/>
            </p:nvSpPr>
            <p:spPr>
              <a:xfrm>
                <a:off x="5940360" y="3860640"/>
                <a:ext cx="5763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2484360" y="4149720"/>
                <a:ext cx="3938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4932360" y="4508640"/>
                <a:ext cx="1657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1187280" y="4941720"/>
                <a:ext cx="6459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3"/>
              <p:cNvSpPr txBox="1"/>
              <p:nvPr/>
            </p:nvSpPr>
            <p:spPr>
              <a:xfrm>
                <a:off x="1763640" y="5805360"/>
                <a:ext cx="50403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ть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7:48:41Z</dcterms:created>
  <dc:creator>Asus</dc:creator>
  <dc:description/>
  <dc:language>en-US</dc:language>
  <cp:lastModifiedBy>Пользователь</cp:lastModifiedBy>
  <dcterms:modified xsi:type="dcterms:W3CDTF">2018-07-01T12:40:35Z</dcterms:modified>
  <cp:revision>55</cp:revision>
  <dc:subject/>
  <dc:title>Интегральное исчисление</dc:title>
</cp:coreProperties>
</file>